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FFEE-2AAA-498E-AD04-8D142F1B1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675-D571-4829-B7FF-7B933A6BD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3AC3-FA1D-47F0-B725-1EC6B160E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C84-F76C-4E1E-A3B8-138F415F7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C23C-C1FD-464F-A6E3-3D69B9FB42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0AF-EDA0-4252-BE59-FDC524397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6E5-2474-49ED-AD84-1A1AF647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D2F-097B-4B79-92C3-8E61E85E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120-09EC-4A68-B66C-31B95DAB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123-371F-4574-BF3D-0FA2C820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8851-E053-4D83-AEC9-D18D2FA0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F42-ABB8-4476-B053-F8C75E32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2453-557A-4A92-B5FD-DB9D3D4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5508-C560-453A-9BCB-40C56FB0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D570-4273-4AD8-9328-1BEA7BA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6925-4DBE-4D2E-B67C-37805175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882C-8383-4873-9629-A3B0499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246-D2A5-4214-949A-2FBB57D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1A8A-982E-4933-A605-9B09F1D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FCE8-F2C3-4421-BB25-B9116B90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16C6-906B-49D5-98E9-70E3A2B6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0542-D7EB-4566-8CA3-E3A0F4C2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346D-93C8-47A0-A3D4-E7F43A29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E6C-0106-406C-BF4E-CC336F63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D80-7252-4E44-998C-375C23A1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D6D-023E-4D4B-BAE9-62CD828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107-BFFE-41C3-8DBF-6617E81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EED-52BB-4567-B0DF-F1F1C3B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741-55DF-464B-AA50-3A68C24B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92C-EFAC-47D3-BC67-99652D4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EBD0-F8DF-43D7-B4D6-F822CA10E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76E6-001F-4E4F-88AF-49B2815C6F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sstKla35Y&amp;feature=player_embedd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N7qSjR9N7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ET GMAC’S                 ROBO SIGNER              JEFFREY STEPH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newbanner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53352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e this video of                   the deposition of             GMAC’s famed robo signer, Jeffrey Stephan,                   who estimates that he signs 10,000 documents a month.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53352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cc"/>
                </a:solidFill>
                <a:uFillTx/>
                <a:latin typeface="Arial"/>
                <a:hlinkClick r:id="rId1"/>
              </a:rPr>
              <a:t>http://www.youtube.com/watch?v=tOsstKla35Y&amp;feature=player_embedded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53352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 TW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cc"/>
                </a:solidFill>
                <a:uFillTx/>
                <a:latin typeface="Arial"/>
                <a:hlinkClick r:id="rId1"/>
              </a:rPr>
              <a:t>http://www.youtube.com/watch?v=BN7qSjR9N74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685800"/>
            <a:ext cx="83822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Max Gardner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Bankruptcy Boot Cam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20:46:50Z</dcterms:created>
  <dc:creator> </dc:creator>
  <dc:description/>
  <dc:language>en-US</dc:language>
  <cp:lastModifiedBy>user1</cp:lastModifiedBy>
  <dcterms:modified xsi:type="dcterms:W3CDTF">2011-01-27T17:43:51Z</dcterms:modified>
  <cp:revision>7</cp:revision>
  <dc:subject/>
  <dc:title>FANNIE, FREDDIE &amp; FHA REO INVENTORY QTR4 2007 – QTR1 2010</dc:title>
</cp:coreProperties>
</file>